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B767-9DCB-4B07-BC80-0970E118250B}"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433A-6BD2-45C6-9BA9-4B807E23164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24DE-EBF8-450D-B7DF-DC2259CBCBA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DFD65-417A-4869-99EF-22B54CCE20D7}"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2D7E-8C7B-49AC-8877-CE35B1E88D3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D7D2-290B-4759-A911-7D78D52C5B26}"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8BC8-54D7-4467-8D9F-E4DD2003C050}"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042C-9162-4317-838B-5C88F5961458}"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4759-B0CF-437B-A6EC-3EBF8CDEEE4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364B-9B01-4339-BB9D-B951B79F4BD5}"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18AE-2E6A-409C-B919-377C6F6513CA}"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29FC-55B9-485F-A2AC-9C5CBFC19759}"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E7D7-3D6E-4E9E-9097-5AB60905F820}"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F20F-4C49-4DFE-B943-88683737B91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63A0-086D-4B82-B860-16185A4AB3BD}"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4"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5E74-90DF-4E2F-AB87-31726F5A3C85}"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319B-A932-43BB-B6EC-C7271200700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5DC94-B2FA-41E2-98DD-0CB087243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6A488-6E3C-45DF-980F-ED79ECEAD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FACA1-127B-4A90-99A3-B9CE851CD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FF61F-0EDF-4BB1-BC11-675E0BE6E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D3955-7A41-42AC-B571-D1299982D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BC8E6-C1EC-4D6E-AF1D-4EA580942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1E576-2C61-4E0D-A6FC-C79C03483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35EE7-489F-44C0-A7B1-DC026B339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34C96-FE59-4194-B29F-BE8ED5B39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1C37E-3CA8-4141-9A5A-1312D299C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E6581-06D1-45C8-8FDB-08F035385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3C47D-07DB-4BB0-9ECA-7C789BE4C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1874F-652E-45DE-AF1B-661D038C9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5E7AF-55D6-4F10-B57C-40A594C1A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58B6A-1284-44B9-8307-15CAF6E40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D29D5-8538-4694-88A7-D783FAC968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E9196-C07C-44D1-A40E-0F4FABDF3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05FA5D-4639-4B6F-B1C9-D09333D96B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BAA63D-BB7D-41DF-94DF-4486B4FB99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FB65FC-28FA-4BD4-98E3-4A442E2CA8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B56211-AF19-465F-A20B-09B25E876B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A45C96-62E1-4417-B51B-E01D23C46B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FB15B-5D22-46AE-87C9-226AE4D84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F9E596-95F7-48D3-BA7D-1005588BC2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D821C-BEC3-4D82-ADBD-BE4F51367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29D787-7338-4D17-A444-981685FF4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A6FB56-7AC2-452F-973A-BC860E283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EAC6D-7A5B-4ECA-BD99-8E65711B67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C32845-6440-4A2E-897F-729F0EC285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8A89FB-2FA1-4418-864C-0525224D72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A474C7-4824-49E0-A99F-17E5E8AC39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EA3ED5-7B3A-4C1E-98B9-FDA8828B7A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26C473-0870-4F6E-9897-7E3AD353C8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4BF06-6A4F-45DE-BBE5-814908E18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AF4C01-15F2-45D3-813F-3DA993144F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90FA1F-E178-4790-ABBE-8C7FA0A9A9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96726D-C3BC-438B-B72D-1A6E76EC46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C6E30-1693-4F84-B387-7AFB78743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EA42A-1601-4FDD-B3E9-5A89F10473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735DF3-003B-42A4-9FD4-AA5B11DE85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FC8798-9936-46D7-9B00-3A91738E28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417829-C78F-4048-A96F-142BB56F81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7C2C89-5F1A-4D41-B19C-86F6044B02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FE844-5508-4F4D-898F-AF43BEFA4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08E5A-0E7A-4F69-89F9-858F379D1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98386-DB30-4EE4-B8C5-93BD2185E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46678-66BD-43B9-8CC2-C6E4DAE41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0B326-D9CA-4957-B27B-0C250C77C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806F-AC70-46C2-B04B-AF355968EA01}"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9EB2-7C88-4451-A5BD-6EC03267C495}"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DE6B-58A8-4E34-B2AB-8171BE4DFD4F}"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1172-CD0B-4B7E-801B-B7145C2BB079}"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Naslov 1"/>
          <p:cNvGrpSpPr/>
          <p:nvPr/>
        </p:nvGrpSpPr>
        <p:grpSpPr>
          <a:xfrm>
            <a:off x="500040" y="1158840"/>
            <a:ext cx="7851960" cy="4321080"/>
            <a:chOff x="500040" y="1158840"/>
            <a:chExt cx="7851960" cy="4321080"/>
          </a:xfrm>
        </p:grpSpPr>
        <p:pic>
          <p:nvPicPr>
            <p:cNvPr id="221" name="Naslov 1" descr=""/>
            <p:cNvPicPr/>
            <p:nvPr/>
          </p:nvPicPr>
          <p:blipFill>
            <a:blip r:embed="rId1"/>
            <a:stretch/>
          </p:blipFill>
          <p:spPr>
            <a:xfrm>
              <a:off x="500040" y="1158840"/>
              <a:ext cx="7851960" cy="4321080"/>
            </a:xfrm>
            <a:prstGeom prst="rect">
              <a:avLst/>
            </a:prstGeom>
            <a:ln w="0">
              <a:noFill/>
            </a:ln>
          </p:spPr>
        </p:pic>
        <p:sp>
          <p:nvSpPr>
            <p:cNvPr id="222" name=""/>
            <p:cNvSpPr/>
            <p:nvPr/>
          </p:nvSpPr>
          <p:spPr>
            <a:xfrm>
              <a:off x="539640" y="1197000"/>
              <a:ext cx="7772400" cy="42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POSLOVNO POROČILO </a:t>
              </a:r>
              <a:br>
                <a:rPr sz="7200"/>
              </a:br>
              <a:r>
                <a:rPr b="1" lang="sl-SI" sz="7200" spc="-1" strike="noStrike">
                  <a:solidFill>
                    <a:srgbClr val="99ca3c"/>
                  </a:solidFill>
                  <a:latin typeface="Calibri"/>
                </a:rPr>
                <a:t>za </a:t>
              </a:r>
              <a:br>
                <a:rPr sz="7200"/>
              </a:br>
              <a:r>
                <a:rPr b="1" lang="sl-SI" sz="7200" spc="-1" strike="noStrike">
                  <a:solidFill>
                    <a:srgbClr val="99ca3c"/>
                  </a:solidFill>
                  <a:latin typeface="Calibri"/>
                </a:rPr>
                <a:t>leto 2014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OŠ Stična</a:t>
              </a:r>
              <a:endParaRPr b="0" lang="en-US" sz="7200" spc="-1" strike="noStrike">
                <a:solidFill>
                  <a:srgbClr val="000000"/>
                </a:solidFill>
                <a:latin typeface="Arial"/>
              </a:endParaRPr>
            </a:p>
          </p:txBody>
        </p:sp>
      </p:grpSp>
    </p:spTree>
  </p:cSld>
  <p:transition spd="slow" advTm="8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oljeZBesedilom 1"/>
          <p:cNvSpPr/>
          <p:nvPr/>
        </p:nvSpPr>
        <p:spPr>
          <a:xfrm>
            <a:off x="2268360" y="0"/>
            <a:ext cx="41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ŠPORTNI DOSEŽKI</a:t>
            </a:r>
            <a:endParaRPr b="0" lang="en-US" sz="4000" spc="-1" strike="noStrike">
              <a:solidFill>
                <a:srgbClr val="000000"/>
              </a:solidFill>
              <a:latin typeface="Arial"/>
            </a:endParaRPr>
          </a:p>
        </p:txBody>
      </p:sp>
      <p:sp>
        <p:nvSpPr>
          <p:cNvPr id="250" name="PoljeZBesedilom 2"/>
          <p:cNvSpPr/>
          <p:nvPr/>
        </p:nvSpPr>
        <p:spPr>
          <a:xfrm>
            <a:off x="84240" y="476280"/>
            <a:ext cx="8928000" cy="639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2. 01. 2014 Šempeter pri Novi Gorici: posamično osnovnošolsko tekmovanje v šahu: Hana Bajt 7.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9. 01. 2014 na OŠ Žirovnica polfinalno tekmovanje v skokih z male prožne ponjave. Najmlajše učenke ekipno 3. mesto. V tekmovanju mlajših deklic je Neja Planko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6. 02. 2014 Brežice: državno tekmovanje v skokih z male prožne ponjave. Neja Planko 24.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04. 2014 Zalogu v Ljubljani: četrtfinale državnega tekmovanja v namiznem tenisu. Miha Okorn 6.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4. 04. 2014 državno tekmovanje v krosu v Mariboru. Gašper Herman 8. mesto. Ela Tekavec 19.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7. 05. 2014 na OŠ Dobrova finale državnega tekmovanja v športni gimnastiki.  Najmlajše učenke 6. mesto. Mlajše učenke 11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5. 06. 2014 Koper: finale posamičnega prvenstva OŠ v atletiki. Gal Krauthaker 2.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10. 2014 na OŠ Dobrova državno tekmovanje v mnogoboju. Ekipno učenke 4. mesto. Posamično Nika Škoda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5. 10. 2014 Ljubljana: Ljubljanski maraton. Ela Tekavec 7. mesto.</a:t>
            </a:r>
            <a:endParaRPr b="0" lang="en-US" sz="2300" spc="-1" strike="noStrike">
              <a:solidFill>
                <a:srgbClr val="000000"/>
              </a:solidFill>
              <a:latin typeface="Arial"/>
            </a:endParaRPr>
          </a:p>
        </p:txBody>
      </p:sp>
    </p:spTree>
  </p:cSld>
  <p:transition spd="slow" advTm="8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 NPZ</a:t>
            </a:r>
            <a:endParaRPr b="0" lang="en-US" sz="4000" spc="-1" strike="noStrike">
              <a:solidFill>
                <a:srgbClr val="000000"/>
              </a:solidFill>
              <a:latin typeface="Arial"/>
            </a:endParaRPr>
          </a:p>
        </p:txBody>
      </p:sp>
      <p:sp>
        <p:nvSpPr>
          <p:cNvPr id="253" name="PoljeZBesedilom 2"/>
          <p:cNvSpPr/>
          <p:nvPr/>
        </p:nvSpPr>
        <p:spPr>
          <a:xfrm>
            <a:off x="179280" y="47628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6. razrede (obvezno): 103 učenci: </a:t>
            </a:r>
            <a:r>
              <a:rPr b="1" lang="sl-SI" sz="3600" spc="-1" strike="noStrike">
                <a:solidFill>
                  <a:srgbClr val="000000"/>
                </a:solidFill>
                <a:latin typeface="Calibri"/>
                <a:ea typeface="Verdana"/>
              </a:rPr>
              <a:t>matematika 65,86 % </a:t>
            </a:r>
            <a:r>
              <a:rPr b="1" lang="sl-SI" sz="3600" spc="-1" strike="noStrike">
                <a:solidFill>
                  <a:srgbClr val="99ca3c"/>
                </a:solidFill>
                <a:latin typeface="Calibri"/>
                <a:ea typeface="Verdana"/>
              </a:rPr>
              <a:t>(SLO 62,10 %), </a:t>
            </a:r>
            <a:r>
              <a:rPr b="1" lang="sl-SI" sz="3600" spc="-1" strike="noStrike">
                <a:solidFill>
                  <a:srgbClr val="000000"/>
                </a:solidFill>
                <a:latin typeface="Calibri"/>
                <a:ea typeface="Verdana"/>
              </a:rPr>
              <a:t>slovenščina 65,14 % </a:t>
            </a:r>
            <a:r>
              <a:rPr b="1" lang="sl-SI" sz="3600" spc="-1" strike="noStrike">
                <a:solidFill>
                  <a:srgbClr val="99ca3c"/>
                </a:solidFill>
                <a:latin typeface="Calibri"/>
                <a:ea typeface="Verdana"/>
              </a:rPr>
              <a:t>(SLO 62,47 %) in </a:t>
            </a:r>
            <a:r>
              <a:rPr b="1" lang="sl-SI" sz="3600" spc="-1" strike="noStrike">
                <a:solidFill>
                  <a:srgbClr val="000000"/>
                </a:solidFill>
                <a:latin typeface="Calibri"/>
                <a:ea typeface="Verdana"/>
              </a:rPr>
              <a:t>angleščina 41,73 % </a:t>
            </a:r>
            <a:r>
              <a:rPr b="1" lang="sl-SI" sz="3600" spc="-1" strike="noStrike">
                <a:solidFill>
                  <a:srgbClr val="99ca3c"/>
                </a:solidFill>
                <a:latin typeface="Calibri"/>
                <a:ea typeface="Verdana"/>
              </a:rPr>
              <a:t>(SLO 48,30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9. razrede (obvezno): 87 učencev: </a:t>
            </a:r>
            <a:r>
              <a:rPr b="1" lang="sl-SI" sz="3600" spc="-1" strike="noStrike">
                <a:solidFill>
                  <a:srgbClr val="000000"/>
                </a:solidFill>
                <a:latin typeface="Calibri"/>
                <a:ea typeface="Verdana"/>
              </a:rPr>
              <a:t>Matematika 55,48 % </a:t>
            </a:r>
            <a:r>
              <a:rPr b="1" lang="sl-SI" sz="3600" spc="-1" strike="noStrike">
                <a:solidFill>
                  <a:srgbClr val="99ca3c"/>
                </a:solidFill>
                <a:latin typeface="Calibri"/>
                <a:ea typeface="Verdana"/>
              </a:rPr>
              <a:t>(SLO – 53,39 %), </a:t>
            </a:r>
            <a:r>
              <a:rPr b="1" lang="sl-SI" sz="3600" spc="-1" strike="noStrike">
                <a:solidFill>
                  <a:srgbClr val="000000"/>
                </a:solidFill>
                <a:latin typeface="Calibri"/>
                <a:ea typeface="Verdana"/>
              </a:rPr>
              <a:t>Slovenščina 54,24 % </a:t>
            </a:r>
            <a:r>
              <a:rPr b="1" lang="sl-SI" sz="3600" spc="-1" strike="noStrike">
                <a:solidFill>
                  <a:srgbClr val="99ca3c"/>
                </a:solidFill>
                <a:latin typeface="Calibri"/>
                <a:ea typeface="Verdana"/>
              </a:rPr>
              <a:t>(SLO – 55,07 %), </a:t>
            </a:r>
            <a:r>
              <a:rPr b="1" lang="sl-SI" sz="3600" spc="-1" strike="noStrike">
                <a:solidFill>
                  <a:srgbClr val="000000"/>
                </a:solidFill>
                <a:latin typeface="Calibri"/>
                <a:ea typeface="Verdana"/>
              </a:rPr>
              <a:t>Biologija 45,30 % </a:t>
            </a:r>
            <a:r>
              <a:rPr b="1" lang="sl-SI" sz="3600" spc="-1" strike="noStrike">
                <a:solidFill>
                  <a:srgbClr val="99ca3c"/>
                </a:solidFill>
                <a:latin typeface="Calibri"/>
                <a:ea typeface="Verdana"/>
              </a:rPr>
              <a:t>(SLO – 47,46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advTm="8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oljeZBesedilom 1"/>
          <p:cNvSpPr/>
          <p:nvPr/>
        </p:nvSpPr>
        <p:spPr>
          <a:xfrm>
            <a:off x="1908000" y="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PIS V SREDNJE ŠOLE</a:t>
            </a:r>
            <a:endParaRPr b="0" lang="en-US" sz="4000" spc="-1" strike="noStrike">
              <a:solidFill>
                <a:srgbClr val="000000"/>
              </a:solidFill>
              <a:latin typeface="Arial"/>
            </a:endParaRPr>
          </a:p>
        </p:txBody>
      </p:sp>
      <p:sp>
        <p:nvSpPr>
          <p:cNvPr id="256" name="PoljeZBesedilom 2"/>
          <p:cNvSpPr/>
          <p:nvPr/>
        </p:nvSpPr>
        <p:spPr>
          <a:xfrm>
            <a:off x="324000" y="549360"/>
            <a:ext cx="8820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Gimnazija in strokovna gimnazi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2 (Srednja šola Josipa Jurčiča: 21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strokovnega oz. tehnišk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7 (Srednja šola Josipa Jurčiča: 2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18,</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niž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5 (od tega 3 učenci OŠPP).</a:t>
            </a:r>
            <a:endParaRPr b="0" lang="en-US" sz="3200" spc="-1" strike="noStrike">
              <a:solidFill>
                <a:srgbClr val="000000"/>
              </a:solidFill>
              <a:latin typeface="Arial"/>
            </a:endParaRPr>
          </a:p>
        </p:txBody>
      </p:sp>
    </p:spTree>
  </p:cSld>
  <p:transition spd="slow" advTm="8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a:t>
            </a:r>
            <a:endParaRPr b="0" lang="en-US" sz="4000" spc="-1" strike="noStrike">
              <a:solidFill>
                <a:srgbClr val="000000"/>
              </a:solidFill>
              <a:latin typeface="Arial"/>
            </a:endParaRPr>
          </a:p>
        </p:txBody>
      </p:sp>
      <p:graphicFrame>
        <p:nvGraphicFramePr>
          <p:cNvPr id="259" name=""/>
          <p:cNvGraphicFramePr/>
          <p:nvPr/>
        </p:nvGraphicFramePr>
        <p:xfrm>
          <a:off x="395280" y="701640"/>
          <a:ext cx="8256600" cy="5761080"/>
        </p:xfrm>
        <a:graphic>
          <a:graphicData uri="http://schemas.openxmlformats.org/drawingml/2006/table">
            <a:tbl>
              <a:tblPr/>
              <a:tblGrid>
                <a:gridCol w="911160"/>
                <a:gridCol w="909720"/>
                <a:gridCol w="1162080"/>
                <a:gridCol w="871560"/>
                <a:gridCol w="698400"/>
                <a:gridCol w="1352520"/>
                <a:gridCol w="1003320"/>
                <a:gridCol w="881280"/>
                <a:gridCol w="466560"/>
              </a:tblGrid>
              <a:tr h="32076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pozitivno ocenjeni uč.</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ne napreduje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6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RAZRED</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z neg.oc.</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ponavlja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v 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3624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P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5.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9.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380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9.VG</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8,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 9.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4920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6.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8. - 9.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3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2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oljeZBesedilom 1"/>
          <p:cNvSpPr/>
          <p:nvPr/>
        </p:nvSpPr>
        <p:spPr>
          <a:xfrm>
            <a:off x="1042920" y="0"/>
            <a:ext cx="698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Kadrovanje</a:t>
            </a:r>
            <a:endParaRPr b="0" lang="en-US" sz="4000" spc="-1" strike="noStrike">
              <a:solidFill>
                <a:srgbClr val="000000"/>
              </a:solidFill>
              <a:latin typeface="Arial"/>
            </a:endParaRPr>
          </a:p>
        </p:txBody>
      </p:sp>
      <p:graphicFrame>
        <p:nvGraphicFramePr>
          <p:cNvPr id="262" name=""/>
          <p:cNvGraphicFramePr/>
          <p:nvPr/>
        </p:nvGraphicFramePr>
        <p:xfrm>
          <a:off x="250920" y="704880"/>
          <a:ext cx="8424720" cy="6064200"/>
        </p:xfrm>
        <a:graphic>
          <a:graphicData uri="http://schemas.openxmlformats.org/drawingml/2006/table">
            <a:tbl>
              <a:tblPr/>
              <a:tblGrid>
                <a:gridCol w="4708440"/>
                <a:gridCol w="1974960"/>
                <a:gridCol w="1741320"/>
              </a:tblGrid>
              <a:tr h="245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4</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118764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avcev:</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trokovn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dministrativno-računovodsk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tehnični delavci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7</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906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kupno število zaposlenih</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3656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ovnih invalidov z II. ali III. stopnjo invalidnosti</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r>
                        <a:rPr b="0" lang="en-US"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3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98100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Zaposleni v delovnem razmerju:</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ne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od tega neustrezna izobrazb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31</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2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04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učiteljev začetnikov</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volont. pripravniki</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2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226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trokovni delavci po nazivu: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nik</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ovalec</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mentor</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brez naziv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2</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9</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90680">
                <a:tc>
                  <a:txBody>
                    <a:bodyPr lIns="55080" rIns="55080" tIns="0" bIns="0" anchor="t">
                      <a:no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Upokojitve: redna</a:t>
                      </a:r>
                      <a:endParaRPr b="0" lang="en-US" sz="1400" spc="-1" strike="noStrike">
                        <a:solidFill>
                          <a:srgbClr val="000000"/>
                        </a:solidFill>
                        <a:latin typeface="Arial"/>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invalidsk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ransition spd="slow" advTm="8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pic>
        <p:nvPicPr>
          <p:cNvPr id="265" name="Grafikon 4" descr=""/>
          <p:cNvPicPr/>
          <p:nvPr/>
        </p:nvPicPr>
        <p:blipFill>
          <a:blip r:embed="rId1"/>
          <a:stretch/>
        </p:blipFill>
        <p:spPr>
          <a:xfrm>
            <a:off x="109440" y="1054080"/>
            <a:ext cx="8278920" cy="4535640"/>
          </a:xfrm>
          <a:prstGeom prst="rect">
            <a:avLst/>
          </a:prstGeom>
          <a:ln w="0">
            <a:noFill/>
          </a:ln>
        </p:spPr>
      </p:pic>
      <p:sp>
        <p:nvSpPr>
          <p:cNvPr id="266"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6.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spTree>
  </p:cSld>
  <p:transition spd="slow" advTm="8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sp>
        <p:nvSpPr>
          <p:cNvPr id="269"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9.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pic>
        <p:nvPicPr>
          <p:cNvPr id="270" name="Grafikon 5" descr=""/>
          <p:cNvPicPr/>
          <p:nvPr/>
        </p:nvPicPr>
        <p:blipFill>
          <a:blip r:embed="rId1"/>
          <a:stretch/>
        </p:blipFill>
        <p:spPr>
          <a:xfrm>
            <a:off x="103320" y="835200"/>
            <a:ext cx="8497800" cy="4608360"/>
          </a:xfrm>
          <a:prstGeom prst="rect">
            <a:avLst/>
          </a:prstGeom>
          <a:ln w="0">
            <a:noFill/>
          </a:ln>
        </p:spPr>
      </p:pic>
    </p:spTree>
  </p:cSld>
  <p:transition spd="slow" advTm="8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5" name="PoljeZBesedilom 3"/>
          <p:cNvSpPr/>
          <p:nvPr/>
        </p:nvSpPr>
        <p:spPr>
          <a:xfrm>
            <a:off x="190440" y="549360"/>
            <a:ext cx="8785440" cy="544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99ca3c"/>
                </a:solidFill>
                <a:latin typeface="Calibri"/>
                <a:ea typeface="Verdana"/>
              </a:rPr>
              <a:t>V letu 2014 so opravili sledeče strokovne preglede šolskih kuhinj:</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8. 01. 2014 v Višnji Go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6. 01. 2014 v Stič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8. 04. 2014 na Muljav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6. 06.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1. 10. 2014 na Krk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1. 12.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nšpektor za varno hrano, veterinarstvo in varstvo rastlin je opravil redni inšpekcijski pregled na podružnični šoli v Ambrusu dne 4. 3. 2014.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a podlagi prejetega obvestila staršev je dne 3. 10. 2014 Inšpektorat RS za šolstvo in šport uvedel izredni inšpekcijski nadzor oz. poziv k izjasnitvi na domnevne kršitve pri vzgojno-izobraževalnem delu na PŠ Višnja Gora.</a:t>
            </a:r>
            <a:endParaRPr b="0" lang="en-US" sz="2300" spc="-1" strike="noStrike">
              <a:solidFill>
                <a:srgbClr val="000000"/>
              </a:solidFill>
              <a:latin typeface="Arial"/>
            </a:endParaRPr>
          </a:p>
        </p:txBody>
      </p:sp>
    </p:spTree>
  </p:cSld>
  <p:transition spd="slow" advTm="8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8" name="PoljeZBesedilom 3"/>
          <p:cNvSpPr/>
          <p:nvPr/>
        </p:nvSpPr>
        <p:spPr>
          <a:xfrm>
            <a:off x="190440" y="549360"/>
            <a:ext cx="8785440" cy="57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Dne 9. 1. 2014 je požarni inšpektor opravil pregled na PŠ Ambru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stega dne je bila pregledana tudi PŠ Višnja Gora. </a:t>
            </a:r>
            <a:r>
              <a:rPr b="1" lang="pl-PL" sz="2300" spc="-1" strike="noStrike">
                <a:solidFill>
                  <a:srgbClr val="000000"/>
                </a:solidFill>
                <a:latin typeface="Calibri"/>
                <a:ea typeface="Verdana"/>
              </a:rPr>
              <a:t>Dne 10. 1. 2014 je bila pregledana PŠ Krka. Istega dne je bila pregledana PŠ Muljava. Dne 16. 1. 2014 je bila pregledana PŠ Stična. Dne 24. 4. 2014 se je na matični šoli ponovno oglasil inšpektor za varstvo pred naravnimi in drugimi nesrečami z namenom pregleda stanja zaščite in reševanja na OŠ Stična in vseh podružničnih šolah.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Verdana"/>
              </a:rPr>
              <a:t>Inšpektorat RS za del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zredni inšpekcijski nadzor je bil opravljen dne 31. 3. 2014 na razpisano prosto delovno mesto ''učitelja v podaljšanem bivanju''. Dne 20. 5. 2014 je bil opravljen izredni inšpekcijski nadzor na razpisano prosto delovno mesto ''učitelja razrednega pouka''.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otranjo revizijo poslovanja za leto 2013 nam je opravilo podjetje CPA Perner d.o.o dne 18. 5. 2014. Predmet revidiranja je bilo izvrševanje letnega finančnega načrta (prihodki in odhodki) OŠ za leto 2013, finančno stanje OŠ na dan 31. 12. 2013 in delovanje notranjih kontrol. </a:t>
            </a:r>
            <a:endParaRPr b="0" lang="en-US" sz="2300" spc="-1" strike="noStrike">
              <a:solidFill>
                <a:srgbClr val="000000"/>
              </a:solidFill>
              <a:latin typeface="Arial"/>
            </a:endParaRPr>
          </a:p>
        </p:txBody>
      </p:sp>
    </p:spTree>
  </p:cSld>
  <p:transition spd="slow" advTm="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Naslov 1"/>
          <p:cNvGrpSpPr/>
          <p:nvPr/>
        </p:nvGrpSpPr>
        <p:grpSpPr>
          <a:xfrm>
            <a:off x="500040" y="652320"/>
            <a:ext cx="7851960" cy="4327560"/>
            <a:chOff x="500040" y="652320"/>
            <a:chExt cx="7851960" cy="4327560"/>
          </a:xfrm>
        </p:grpSpPr>
        <p:pic>
          <p:nvPicPr>
            <p:cNvPr id="231" name="Naslov 1" descr=""/>
            <p:cNvPicPr/>
            <p:nvPr/>
          </p:nvPicPr>
          <p:blipFill>
            <a:blip r:embed="rId1"/>
            <a:stretch/>
          </p:blipFill>
          <p:spPr>
            <a:xfrm>
              <a:off x="500040" y="652320"/>
              <a:ext cx="7851960" cy="4327560"/>
            </a:xfrm>
            <a:prstGeom prst="rect">
              <a:avLst/>
            </a:prstGeom>
            <a:ln w="0">
              <a:noFill/>
            </a:ln>
          </p:spPr>
        </p:pic>
        <p:sp>
          <p:nvSpPr>
            <p:cNvPr id="232" name=""/>
            <p:cNvSpPr/>
            <p:nvPr/>
          </p:nvSpPr>
          <p:spPr>
            <a:xfrm>
              <a:off x="539640" y="692280"/>
              <a:ext cx="7772400" cy="42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oddelkov: 63,5</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učencev: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1089</a:t>
              </a:r>
              <a:endParaRPr b="0" lang="en-US" sz="4000" spc="-1" strike="noStrike">
                <a:solidFill>
                  <a:srgbClr val="000000"/>
                </a:solidFill>
                <a:latin typeface="Arial"/>
              </a:endParaRPr>
            </a:p>
          </p:txBody>
        </p:sp>
      </p:grpSp>
    </p:spTree>
  </p:cSld>
  <p:transition spd="slow" advTm="8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oljeZBesedilom 1"/>
          <p:cNvSpPr/>
          <p:nvPr/>
        </p:nvSpPr>
        <p:spPr>
          <a:xfrm>
            <a:off x="88920" y="7308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
        <p:nvSpPr>
          <p:cNvPr id="235" name="PoljeZBesedilom 3"/>
          <p:cNvSpPr/>
          <p:nvPr/>
        </p:nvSpPr>
        <p:spPr>
          <a:xfrm>
            <a:off x="250920" y="620640"/>
            <a:ext cx="889308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EALIZACIJA 2013/14</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VEZ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uk (99,80%), izbirni predmeti (100,66%), ure oddelčne skupnosti (110,6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AZŠIRJE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daljšano bivanje (100%), jutranje varstvo (100%), šola v naravi (100%), dodatni pouk (99,94%), dopolnilni pouk (103,05%), interesne dejavnosti (98,5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I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dodatni pouk (91,33%), dopolnilni pouk (75,27%), interesne dejavnosti (89,96%). </a:t>
            </a:r>
            <a:endParaRPr b="0" lang="en-US" sz="3200" spc="-1" strike="noStrike">
              <a:solidFill>
                <a:srgbClr val="000000"/>
              </a:solidFill>
              <a:latin typeface="Arial"/>
            </a:endParaRPr>
          </a:p>
        </p:txBody>
      </p:sp>
    </p:spTree>
  </p:cSld>
  <p:transition spd="slow" advTm="8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oljeZBesedilom 3"/>
          <p:cNvSpPr/>
          <p:nvPr/>
        </p:nvSpPr>
        <p:spPr>
          <a:xfrm>
            <a:off x="277920" y="692280"/>
            <a:ext cx="8856720" cy="61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300" spc="-1" strike="noStrike">
                <a:solidFill>
                  <a:srgbClr val="000000"/>
                </a:solidFill>
                <a:latin typeface="Calibri"/>
                <a:ea typeface="Verdana"/>
              </a:rPr>
              <a:t>3. razred v Osilnici </a:t>
            </a:r>
            <a:r>
              <a:rPr b="1" lang="sl-SI" sz="3300" spc="-1" strike="noStrike">
                <a:solidFill>
                  <a:srgbClr val="99ca3c"/>
                </a:solidFill>
                <a:latin typeface="Calibri"/>
                <a:ea typeface="Verdana"/>
              </a:rPr>
              <a:t>(20 urni tečaj plavanja): </a:t>
            </a:r>
            <a:r>
              <a:rPr b="1" lang="sl-SI" sz="3300" spc="-1" strike="noStrike">
                <a:solidFill>
                  <a:srgbClr val="ff0000"/>
                </a:solidFill>
                <a:latin typeface="Calibri"/>
                <a:ea typeface="Verdana"/>
              </a:rPr>
              <a:t>14. do 18. april in 5. do 9.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4. razred v domu Lip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9. do 21., 15. do 19. in 22. do 26.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5. razred v Termah Čatež</a:t>
            </a:r>
            <a:r>
              <a:rPr b="1" lang="sl-SI" sz="3300" spc="-1" strike="noStrike">
                <a:solidFill>
                  <a:srgbClr val="99ca3c"/>
                </a:solidFill>
                <a:latin typeface="Calibri"/>
                <a:ea typeface="Verdana"/>
              </a:rPr>
              <a:t>: </a:t>
            </a:r>
            <a:r>
              <a:rPr b="1" lang="en-US" sz="3300" spc="-1" strike="noStrike">
                <a:solidFill>
                  <a:srgbClr val="ff0000"/>
                </a:solidFill>
                <a:latin typeface="Calibri"/>
                <a:ea typeface="Verdana"/>
              </a:rPr>
              <a:t>8. do 12.  in 15. do 19.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Planic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Kranjska Gor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8. razred v domu Breženk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24. do 28. februa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v domu Vojsko: 31. marec - 4. april 2014, v domu Planica: </a:t>
            </a:r>
            <a:r>
              <a:rPr b="1" lang="pt-BR" sz="3300" spc="-1" strike="noStrike">
                <a:solidFill>
                  <a:srgbClr val="000000"/>
                </a:solidFill>
                <a:latin typeface="Calibri"/>
                <a:ea typeface="Verdana"/>
              </a:rPr>
              <a:t>12. do 16.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6. do 9. razred v domu Breženka</a:t>
            </a:r>
            <a:r>
              <a:rPr b="1" lang="sl-SI" sz="3300" spc="-1" strike="noStrike">
                <a:solidFill>
                  <a:srgbClr val="99ca3c"/>
                </a:solidFill>
                <a:latin typeface="Calibri"/>
                <a:ea typeface="Verdana"/>
              </a:rPr>
              <a:t> (biološko ekološki tabor): </a:t>
            </a:r>
            <a:r>
              <a:rPr b="1" lang="sl-SI" sz="3300" spc="-1" strike="noStrike">
                <a:solidFill>
                  <a:srgbClr val="ff0000"/>
                </a:solidFill>
                <a:latin typeface="Calibri"/>
                <a:ea typeface="Verdana"/>
              </a:rPr>
              <a:t>24. do 28. oktober 2014</a:t>
            </a:r>
            <a:r>
              <a:rPr b="1" lang="sl-SI" sz="3300" spc="-1" strike="noStrike">
                <a:solidFill>
                  <a:srgbClr val="99ca3c"/>
                </a:solidFill>
                <a:latin typeface="Calibri"/>
                <a:ea typeface="Verdana"/>
              </a:rPr>
              <a:t>.</a:t>
            </a:r>
            <a:endParaRPr b="0" lang="en-US" sz="3300" spc="-1" strike="noStrike">
              <a:solidFill>
                <a:srgbClr val="000000"/>
              </a:solidFill>
              <a:latin typeface="Arial"/>
            </a:endParaRPr>
          </a:p>
        </p:txBody>
      </p:sp>
      <p:sp>
        <p:nvSpPr>
          <p:cNvPr id="238" name="PoljeZBesedilom 1"/>
          <p:cNvSpPr/>
          <p:nvPr/>
        </p:nvSpPr>
        <p:spPr>
          <a:xfrm>
            <a:off x="0" y="-936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Tree>
  </p:cSld>
  <p:transition spd="slow" advTm="8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oljeZBesedilom 1"/>
          <p:cNvSpPr/>
          <p:nvPr/>
        </p:nvSpPr>
        <p:spPr>
          <a:xfrm>
            <a:off x="179280" y="200160"/>
            <a:ext cx="885672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500" spc="-1" strike="noStrike">
                <a:solidFill>
                  <a:srgbClr val="99ca3c"/>
                </a:solidFill>
                <a:latin typeface="Calibri"/>
                <a:ea typeface="Verdana"/>
              </a:rPr>
              <a:t>RAZISKOVALNO DELO, PROJEKTI, TEKMOVANJA</a:t>
            </a:r>
            <a:endParaRPr b="0" lang="en-US" sz="3500" spc="-1" strike="noStrike">
              <a:solidFill>
                <a:srgbClr val="000000"/>
              </a:solidFill>
              <a:latin typeface="Arial"/>
            </a:endParaRPr>
          </a:p>
        </p:txBody>
      </p:sp>
      <p:sp>
        <p:nvSpPr>
          <p:cNvPr id="241" name="PoljeZBesedilom 3"/>
          <p:cNvSpPr/>
          <p:nvPr/>
        </p:nvSpPr>
        <p:spPr>
          <a:xfrm>
            <a:off x="684360" y="1052640"/>
            <a:ext cx="75610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Calibri"/>
                <a:ea typeface="Verdana"/>
              </a:rPr>
              <a:t>Raziskovalni projekti, novinarstvo, mednarodni projekti, državni projekti, šolski projekti, kvizi in tekmovanja, proslave, prireditve, prireditve za starše, dejavnosti za nadarjene učence, skrb za okolje, predavanja za učitelje in starše, natečaji …</a:t>
            </a:r>
            <a:endParaRPr b="0" lang="en-US" sz="4000" spc="-1" strike="noStrike">
              <a:solidFill>
                <a:srgbClr val="000000"/>
              </a:solidFill>
              <a:latin typeface="Arial"/>
            </a:endParaRPr>
          </a:p>
        </p:txBody>
      </p:sp>
    </p:spTree>
  </p:cSld>
  <p:transition spd="slow" advTm="8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oljeZBesedilom 1"/>
          <p:cNvSpPr/>
          <p:nvPr/>
        </p:nvSpPr>
        <p:spPr>
          <a:xfrm>
            <a:off x="324000" y="-100080"/>
            <a:ext cx="84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3/2014)</a:t>
            </a:r>
            <a:endParaRPr b="0" lang="en-US" sz="4000" spc="-1" strike="noStrike">
              <a:solidFill>
                <a:srgbClr val="000000"/>
              </a:solidFill>
              <a:latin typeface="Arial"/>
            </a:endParaRPr>
          </a:p>
        </p:txBody>
      </p:sp>
      <p:graphicFrame>
        <p:nvGraphicFramePr>
          <p:cNvPr id="244" name=""/>
          <p:cNvGraphicFramePr/>
          <p:nvPr/>
        </p:nvGraphicFramePr>
        <p:xfrm>
          <a:off x="395280" y="630360"/>
          <a:ext cx="7993080" cy="6462720"/>
        </p:xfrm>
        <a:graphic>
          <a:graphicData uri="http://schemas.openxmlformats.org/drawingml/2006/table">
            <a:tbl>
              <a:tblPr/>
              <a:tblGrid>
                <a:gridCol w="1428840"/>
                <a:gridCol w="1022400"/>
                <a:gridCol w="1098360"/>
                <a:gridCol w="1197000"/>
                <a:gridCol w="1198440"/>
                <a:gridCol w="1067040"/>
                <a:gridCol w="981000"/>
              </a:tblGrid>
              <a:tr h="4770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EDMET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IČNA ŠOLA (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TEK.V  ŠOLI</a:t>
                      </a:r>
                      <a:endParaRPr b="0" lang="en-US" sz="1100" spc="-1" strike="noStrike">
                        <a:solidFill>
                          <a:srgbClr val="000000"/>
                        </a:solidFill>
                        <a:latin typeface="Arial"/>
                      </a:endParaRPr>
                    </a:p>
                  </a:txBody>
                  <a:tcPr anchor="ctr" marL="24840" marR="2484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RON.</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IZNAN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5200">
                <a:tc>
                  <a:txBody>
                    <a:bodyPr lIns="24840" rIns="248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IŠNJA GORA(VG)</a:t>
                      </a:r>
                      <a:endParaRPr b="0" lang="en-US" sz="1100" spc="-1" strike="noStrike">
                        <a:solidFill>
                          <a:srgbClr val="000000"/>
                        </a:solidFill>
                        <a:latin typeface="Arial"/>
                      </a:endParaRPr>
                    </a:p>
                  </a:txBody>
                  <a:tcPr anchor="ctr" marL="24840" marR="2484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PRIZN.</a:t>
                      </a:r>
                      <a:endParaRPr b="0" lang="en-US" sz="1100" spc="-1" strike="noStrike">
                        <a:solidFill>
                          <a:srgbClr val="000000"/>
                        </a:solidFill>
                        <a:latin typeface="Arial"/>
                      </a:endParaRPr>
                    </a:p>
                  </a:txBody>
                  <a:tcPr anchor="ctr" marL="24840" marR="2484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UVR./REG.DRŽ.</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SREBR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ZLAT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LOVEN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0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RAZVEDRILNA 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LOG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NGLE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IOLOGIJA-PROTEUS</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FIZ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KE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ZGODOV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STRONO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iz znanj o sladk. bolezni</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VESELA ŠOL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KUPAJ</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7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ka BZ</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oljeZBesedilom 1"/>
          <p:cNvSpPr/>
          <p:nvPr/>
        </p:nvSpPr>
        <p:spPr>
          <a:xfrm>
            <a:off x="250920" y="-100080"/>
            <a:ext cx="828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4/2015)</a:t>
            </a:r>
            <a:endParaRPr b="0" lang="en-US" sz="4000" spc="-1" strike="noStrike">
              <a:solidFill>
                <a:srgbClr val="000000"/>
              </a:solidFill>
              <a:latin typeface="Arial"/>
            </a:endParaRPr>
          </a:p>
        </p:txBody>
      </p:sp>
      <p:graphicFrame>
        <p:nvGraphicFramePr>
          <p:cNvPr id="247" name=""/>
          <p:cNvGraphicFramePr/>
          <p:nvPr/>
        </p:nvGraphicFramePr>
        <p:xfrm>
          <a:off x="250920" y="608040"/>
          <a:ext cx="8424720" cy="5959440"/>
        </p:xfrm>
        <a:graphic>
          <a:graphicData uri="http://schemas.openxmlformats.org/drawingml/2006/table">
            <a:tbl>
              <a:tblPr/>
              <a:tblGrid>
                <a:gridCol w="1363680"/>
                <a:gridCol w="976320"/>
                <a:gridCol w="1047600"/>
                <a:gridCol w="1047960"/>
                <a:gridCol w="1017360"/>
                <a:gridCol w="1017720"/>
                <a:gridCol w="1017360"/>
                <a:gridCol w="936720"/>
              </a:tblGrid>
              <a:tr h="89460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PREDMET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MATIČNA ŠOLA (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TEK.V  ŠOLI</a:t>
                      </a:r>
                      <a:endParaRPr b="0" lang="en-US" sz="1700" spc="-1" strike="noStrike">
                        <a:solidFill>
                          <a:srgbClr val="000000"/>
                        </a:solidFill>
                        <a:latin typeface="Arial"/>
                      </a:endParaRPr>
                    </a:p>
                  </a:txBody>
                  <a:tcPr anchor="ctr" marL="43560" marR="4356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RON.</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r>
                        <a:rPr b="1" lang="sl-SI" sz="1700" spc="-1" strike="noStrike">
                          <a:solidFill>
                            <a:srgbClr val="ffffff"/>
                          </a:solidFill>
                          <a:latin typeface="Trebuchet MS"/>
                        </a:rPr>
                        <a:t>PRIZNAN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894600">
                <a:tc>
                  <a:txBody>
                    <a:bodyPr lIns="43560" rIns="4356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IŠNJA GORA(VG)</a:t>
                      </a:r>
                      <a:endParaRPr b="0" lang="en-US" sz="1700" spc="-1" strike="noStrike">
                        <a:solidFill>
                          <a:srgbClr val="000000"/>
                        </a:solidFill>
                        <a:latin typeface="Arial"/>
                      </a:endParaRPr>
                    </a:p>
                  </a:txBody>
                  <a:tcPr anchor="ctr" marL="43560" marR="4356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PRIZN.</a:t>
                      </a:r>
                      <a:endParaRPr b="0" lang="en-US" sz="1700" spc="-1" strike="noStrike">
                        <a:solidFill>
                          <a:srgbClr val="000000"/>
                        </a:solidFill>
                        <a:latin typeface="Arial"/>
                      </a:endParaRPr>
                    </a:p>
                  </a:txBody>
                  <a:tcPr anchor="ctr" marL="43560" marR="4356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UVR./REG.</a:t>
                      </a:r>
                      <a:endParaRPr b="0" lang="en-US" sz="17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DRŽ.</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SREBR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ZLAT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RAZVEDRILNA MAT.</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LOGIK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9</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STRONOMI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NGLEŠČIN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IOLOGIJA-PROTEUS</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iz znanj o sladk. bolezni</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9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SKUPAJ</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9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56:02Z</dcterms:created>
  <dc:creator>Zajc</dc:creator>
  <dc:description/>
  <dc:language>en-US</dc:language>
  <cp:lastModifiedBy>Melita</cp:lastModifiedBy>
  <dcterms:modified xsi:type="dcterms:W3CDTF">2015-03-02T11:48:04Z</dcterms:modified>
  <cp:revision>107</cp:revision>
  <dc:subject/>
  <dc:title>POROČILO  o realizaciji LDN za  šol. l. 2010/2011</dc:title>
</cp:coreProperties>
</file>